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9338-75F3-4B13-A742-CCF25C3209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409B-B3A4-4ED2-A80D-EA52E4CC2668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BBB-22EF-45BE-BB2E-62CB9F60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463F-B56A-4D45-999E-FDD9CE4E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408-6285-4C08-B937-C63E39E0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14A-F593-49F3-8F77-9F39AF0B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4528-5312-4A8B-BDC4-67054EDB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5773-009A-4623-899F-AAF96FDB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0DC-31EE-426E-87AB-30E86136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2829-11D7-4416-824A-B8FB5234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CABF-86F9-440B-9311-938ECC32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26AC-7BB3-404D-8375-02517021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63C5-EC1F-4651-863A-FFA9E839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9E96-F2B8-496D-B8B4-9AB373B3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DCCC-45A8-473D-8AEE-E3BC5D3E7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755640" y="1413000"/>
            <a:ext cx="7632720" cy="21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ER LES ELEVES DE SPECI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EN TERMINAL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ANALY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4360" y="549360"/>
          <a:ext cx="7296120" cy="4302000"/>
        </p:xfrm>
        <a:graphic>
          <a:graphicData uri="http://schemas.openxmlformats.org/drawingml/2006/table">
            <a:tbl>
              <a:tblPr/>
              <a:tblGrid>
                <a:gridCol w="1728720"/>
                <a:gridCol w="4890960"/>
                <a:gridCol w="169920"/>
                <a:gridCol w="168120"/>
                <a:gridCol w="169920"/>
                <a:gridCol w="168480"/>
              </a:tblGrid>
              <a:tr h="4381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 rowSpan="11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er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REALI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836640"/>
          <a:ext cx="7921440" cy="3978360"/>
        </p:xfrm>
        <a:graphic>
          <a:graphicData uri="http://schemas.openxmlformats.org/drawingml/2006/table">
            <a:tbl>
              <a:tblPr/>
              <a:tblGrid>
                <a:gridCol w="1512720"/>
                <a:gridCol w="5673960"/>
                <a:gridCol w="183960"/>
                <a:gridCol w="182520"/>
                <a:gridCol w="184320"/>
                <a:gridCol w="183960"/>
              </a:tblGrid>
              <a:tr h="43164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rowSpan="10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VALIDER - COMMUNIQU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11280" y="1052640"/>
          <a:ext cx="7704000" cy="2525760"/>
        </p:xfrm>
        <a:graphic>
          <a:graphicData uri="http://schemas.openxmlformats.org/drawingml/2006/table">
            <a:tbl>
              <a:tblPr/>
              <a:tblGrid>
                <a:gridCol w="2016000"/>
                <a:gridCol w="4951440"/>
                <a:gridCol w="203040"/>
                <a:gridCol w="177840"/>
                <a:gridCol w="177840"/>
                <a:gridCol w="177840"/>
              </a:tblGrid>
              <a:tr h="6127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00000" y="2413080"/>
            <a:ext cx="68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méthode spectrophotométrique pour mesurer la concentration molaire en bleu de méthylène de l’échantillon de l’eau de l’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cela, proposer un protocole et le faire valider par l’enseignant avant la mise en œ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95280" y="404640"/>
          <a:ext cx="8209080" cy="5802480"/>
        </p:xfrm>
        <a:graphic>
          <a:graphicData uri="http://schemas.openxmlformats.org/drawingml/2006/table">
            <a:tbl>
              <a:tblPr/>
              <a:tblGrid>
                <a:gridCol w="1871640"/>
                <a:gridCol w="5551560"/>
                <a:gridCol w="217440"/>
                <a:gridCol w="189000"/>
                <a:gridCol w="189000"/>
                <a:gridCol w="190440"/>
              </a:tblGrid>
              <a:tr h="371520">
                <a:tc>
                  <a:txBody>
                    <a:bodyPr lIns="9036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1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rowSpan="5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900000" y="241308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démarche permettant de déterminer la masse de bleu de méthylène absorbée par 1 g de charbon actif pour aquarium après 10 minutes de temps de cont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faire valider par l’enseignant avant la mise en œuv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549360"/>
          <a:ext cx="8137800" cy="5311800"/>
        </p:xfrm>
        <a:graphic>
          <a:graphicData uri="http://schemas.openxmlformats.org/drawingml/2006/table">
            <a:tbl>
              <a:tblPr/>
              <a:tblGrid>
                <a:gridCol w="2087640"/>
                <a:gridCol w="5270400"/>
                <a:gridCol w="214560"/>
                <a:gridCol w="188640"/>
                <a:gridCol w="187560"/>
                <a:gridCol w="189000"/>
              </a:tblGrid>
              <a:tr h="6015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2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: en plus des indicateurs de réussite de la question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00000" y="241308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olution du problè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Une quantité de charbon actif de 500 g est-elle suffisante pour éliminer le bleu de méthylène présent dans l’aquarium en moins de 10 minut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39640" y="692280"/>
          <a:ext cx="8280360" cy="4680000"/>
        </p:xfrm>
        <a:graphic>
          <a:graphicData uri="http://schemas.openxmlformats.org/drawingml/2006/table">
            <a:tbl>
              <a:tblPr/>
              <a:tblGrid>
                <a:gridCol w="2016360"/>
                <a:gridCol w="5472000"/>
                <a:gridCol w="219240"/>
                <a:gridCol w="190440"/>
                <a:gridCol w="191880"/>
                <a:gridCol w="190440"/>
              </a:tblGrid>
              <a:tr h="55548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olution du problè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é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S’APPROPRI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55640" y="765000"/>
          <a:ext cx="7704000" cy="4559400"/>
        </p:xfrm>
        <a:graphic>
          <a:graphicData uri="http://schemas.openxmlformats.org/drawingml/2006/table">
            <a:tbl>
              <a:tblPr/>
              <a:tblGrid>
                <a:gridCol w="1368360"/>
                <a:gridCol w="5621400"/>
                <a:gridCol w="179280"/>
                <a:gridCol w="177840"/>
                <a:gridCol w="179640"/>
                <a:gridCol w="177480"/>
              </a:tblGrid>
              <a:tr h="4827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rowSpan="9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17:47:26Z</dcterms:created>
  <dc:creator>GERNER</dc:creator>
  <dc:description/>
  <dc:language>en-US</dc:language>
  <cp:lastModifiedBy>GERNER</cp:lastModifiedBy>
  <dcterms:modified xsi:type="dcterms:W3CDTF">2018-02-06T15:52:39Z</dcterms:modified>
  <cp:revision>6</cp:revision>
  <dc:subject/>
  <dc:title>Diapositive 1</dc:title>
</cp:coreProperties>
</file>